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FD5-538B-48E4-A3F2-B1678BCD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83D-6273-434F-892C-2B0E4CC2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262-3C79-49B0-8E8A-B805E579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C02C-3F1C-4CAB-B368-164192E5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009-1776-404F-9417-5C7E7F61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57A-F41C-417B-94E0-5673B926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47A-6C0A-4BB8-A7AC-C6CEA67D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081-7FE2-4B52-9673-38F8DC56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9E9-FD5D-41A0-BA12-FD7AEA98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6CA-7FDF-430E-8E93-4E9A7EB6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37E-C546-45C9-BD93-F4268ECF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921-03C0-4726-87E7-B04A09DD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3C8F-F89E-44BA-8466-48346E432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rayola.com/products/list.cfm?categories=CRAYONS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ayola.com/products/list.cfm?categories=CRAYONS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eb.mit.edu/invent/iow/crayons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0" y="56656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Zoe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2/2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404200">
            <a:off x="685440" y="1218960"/>
            <a:ext cx="77929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rayola Cray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Color Explosion Glow Boar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9548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ayola Products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rayola Picture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3/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http://www.crayola.com/products/list.cfm?categories=CRAY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Binney &amp; Smith"/>
          <p:cNvPicPr/>
          <p:nvPr/>
        </p:nvPicPr>
        <p:blipFill>
          <a:blip r:embed="rId1"/>
          <a:stretch/>
        </p:blipFill>
        <p:spPr>
          <a:xfrm>
            <a:off x="228600" y="152280"/>
            <a:ext cx="5181480" cy="243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Crayon box"/>
          <p:cNvPicPr/>
          <p:nvPr/>
        </p:nvPicPr>
        <p:blipFill>
          <a:blip r:embed="rId2"/>
          <a:stretch/>
        </p:blipFill>
        <p:spPr>
          <a:xfrm>
            <a:off x="228600" y="4640400"/>
            <a:ext cx="2666880" cy="221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Hoop boy"/>
          <p:cNvPicPr/>
          <p:nvPr/>
        </p:nvPicPr>
        <p:blipFill>
          <a:blip r:embed="rId3"/>
          <a:stretch/>
        </p:blipFill>
        <p:spPr>
          <a:xfrm rot="406800">
            <a:off x="6324120" y="2971440"/>
            <a:ext cx="2424240" cy="3567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3200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Binney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2/28/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http://web.mit.edu/invent/iow/cray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Invention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 Crayola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ray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rayol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ran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rayons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er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th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kids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rayon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ever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rayola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rayo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oxe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wer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ol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just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nickel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rayol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ean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“oily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halk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1972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, fluorescent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olors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wer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dde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eet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opular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deman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1987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rayol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ashabl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markers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lore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encil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wer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troduce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ere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stant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hit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kids,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om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eacher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Inventor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 Edward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Binney</a:t>
            </a: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Harold</a:t>
            </a: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 Sm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Edwar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Harol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founde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Binney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Smith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. i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lat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180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pecialize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i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dustrial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olo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ater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they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egan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ak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slat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encil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Edwar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Harol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on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gol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medal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th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t.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Louis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orl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Exhibition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in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1902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ir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vention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th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first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dustles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h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inney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mith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use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ombinatio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paraffi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ax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dustrial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pigments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reat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rayon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that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er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ki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riend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1:45Z</dcterms:created>
  <dc:creator>install</dc:creator>
  <dc:description/>
  <dc:language>en-US</dc:language>
  <cp:lastModifiedBy>install</cp:lastModifiedBy>
  <dcterms:modified xsi:type="dcterms:W3CDTF">2011-03-11T18:31:04Z</dcterms:modified>
  <cp:revision>15</cp:revision>
  <dc:subject/>
  <dc:title>Slide 1</dc:title>
</cp:coreProperties>
</file>